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0505a"/>
                </a:solidFill>
                <a:latin typeface="Arial Rounded MT Bold"/>
              </a:rPr>
              <a:t>Click to move the slide</a:t>
            </a: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281D-D060-4EEC-87FA-A09011B2E2B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F547-A0A3-4363-8143-1BF2664E638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B402-8484-49AD-9019-F9674B1E4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7040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1644840"/>
            <a:ext cx="77040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A3CD8-B340-44F7-8BE8-C04BDBFC2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76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0E32-313D-4F34-B9C8-9250785EE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0960" y="126828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5560" y="126828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164484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0960" y="164484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5560" y="164484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1B7D-2046-4918-99DC-61AA22AA54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6000" y="126828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600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26828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192A-E996-412B-8F17-4DC1C162D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76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6000" y="1644840"/>
            <a:ext cx="77040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7040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16000" y="1644840"/>
            <a:ext cx="77040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600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76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0960" y="126828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5560" y="126828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16000" y="164484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0960" y="164484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5560" y="164484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C2165-10D8-4DB3-A83E-9EF478FDE0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6000" y="126828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A9AD8-351C-4388-9079-FE5C458366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78C03-E55F-4247-902A-A459DC47EB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3CB44-4D14-40CB-823C-379D1D5F6A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14441-0FF5-4B68-8E5D-9E808667AA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D82B9-965A-4C89-BA9C-1D29AFF83B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39E21-A7E5-4229-800D-7A975A52DE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600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FA2A0-50C8-4A55-BD57-9D93BBD340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6376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30ECB-A707-45CC-8B0B-44194C33B9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6000" y="1644840"/>
            <a:ext cx="77040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0F703-C59D-49D4-B764-FBA7F662EB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7040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6000" y="1644840"/>
            <a:ext cx="77040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5C4D1-EFE5-449D-B121-E3B84647CE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600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6376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B91EF-F08F-4848-9615-72730BE437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720960" y="126828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25560" y="126828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6000" y="164484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720960" y="164484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325560" y="164484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B6F8-9743-4524-8254-1C2D72CF74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92C-A953-4E19-9E4F-09788AC7D6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6000" y="126828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55BD-D40A-48D2-8954-9FBBE4178D5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218-B838-465E-B810-EAA68C049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DF23-287F-48B1-B2FD-3B27D686151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DCE-E54D-4CB5-BE83-119102504A3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FD7E-F6B6-4EDC-9570-767848D3B1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50DC-DDBC-43F2-B92A-C6EB793207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600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E6F-FDB1-4EE0-B580-2E454C0626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6376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B103-1DE3-4A9E-98B4-A498C2366E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6000" y="1644840"/>
            <a:ext cx="77040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4B95-A8EB-4F62-94D8-D53243A1E1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7040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6000" y="1644840"/>
            <a:ext cx="77040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FCC9-33D9-4241-A089-0DF1A8B6BF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600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6376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0C3-462F-4FD0-87AF-C27F065DFB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20960" y="126828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325560" y="126828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6000" y="164484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20960" y="164484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325560" y="164484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F12-867B-4A28-9339-65DC5D685BE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3D171-1858-4FEE-96E4-AFA5407C4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9458-034C-43E9-8FDD-89C4626C315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116000" y="126828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F1317-9A92-4F68-B835-4D8717FF198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92858-FBF4-4D99-A1D7-E72C82B3275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0FC83-35DB-48F1-9614-E2D3F7119D7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566D2-3D6D-4FE0-8295-265D9D68DCD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9DFDA-0B11-4FDA-8AA0-0955679C080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11600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4BF12-6906-4EC2-BABF-3C4F2A61662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6376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6C035-A33C-4156-B283-F04F7FCF78E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16000" y="1644840"/>
            <a:ext cx="77040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964B6-C716-4AA9-9E23-62D855062B2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7040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116000" y="1644840"/>
            <a:ext cx="77040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FB616-B914-42D7-A0E5-DF31861CFC8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1600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6376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D79BF-6AEB-4686-9925-D7BCDA139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2746-55B6-4B5C-82EE-78911099BD8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720960" y="126828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5560" y="126828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116000" y="164484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720960" y="164484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5560" y="164484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F1FC7-B90D-424D-B11B-209CA1BBB08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6000" y="126828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600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6376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6000" y="1644840"/>
            <a:ext cx="77040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0748-8BFE-40F0-AD89-6C2BF3E3F47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7040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6000" y="1644840"/>
            <a:ext cx="77040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600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6376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720960" y="126828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25560" y="126828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6000" y="164484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720960" y="164484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325560" y="1644840"/>
            <a:ext cx="24804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760" y="164484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6061-BFB8-428E-B453-54AB71278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760" y="1268280"/>
            <a:ext cx="375948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1644840"/>
            <a:ext cx="7704000" cy="3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B3AC-28E1-40F9-B9C4-A7BBA3F98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16000" y="126828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68400" indent="-68400" algn="just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1" marL="148320" indent="-56880" algn="just">
              <a:spcBef>
                <a:spcPts val="601"/>
              </a:spcBef>
              <a:buClr>
                <a:srgbClr val="ffcc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2" marL="228600" indent="-45720" algn="just">
              <a:spcBef>
                <a:spcPts val="601"/>
              </a:spcBef>
              <a:buClr>
                <a:srgbClr val="00b0f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3" marL="320040" indent="-45720" algn="just">
              <a:spcBef>
                <a:spcPts val="601"/>
              </a:spcBef>
              <a:buClr>
                <a:srgbClr val="ffcc00"/>
              </a:buClr>
              <a:buFont typeface="Arial Rounded MT Bold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4" marL="411480" indent="-45720" algn="just">
              <a:spcBef>
                <a:spcPts val="601"/>
              </a:spcBef>
              <a:buClr>
                <a:srgbClr val="ffcc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5" marL="411480" indent="-45720" algn="just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6" marL="411480" indent="-45720" algn="just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395280" y="6308640"/>
            <a:ext cx="431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sami di Stato – Commissione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"/>
          <p:cNvSpPr/>
          <p:nvPr/>
        </p:nvSpPr>
        <p:spPr>
          <a:xfrm>
            <a:off x="468360" y="6308640"/>
            <a:ext cx="4319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Times New Roman"/>
              </a:rPr>
              <a:t>pagina  </a:t>
            </a:r>
            <a:fld id="{E6C43B3F-A831-46C6-B9E1-9070CB1AB585}" type="slidenum">
              <a:rPr b="1" lang="it-IT" sz="1100" spc="-1" strike="noStrike">
                <a:solidFill>
                  <a:srgbClr val="00b0f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mmagine 4" descr=""/>
          <p:cNvPicPr/>
          <p:nvPr/>
        </p:nvPicPr>
        <p:blipFill>
          <a:blip r:embed="rId3"/>
          <a:stretch/>
        </p:blipFill>
        <p:spPr>
          <a:xfrm>
            <a:off x="0" y="115920"/>
            <a:ext cx="248436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8"/>
          <p:cNvSpPr/>
          <p:nvPr/>
        </p:nvSpPr>
        <p:spPr>
          <a:xfrm>
            <a:off x="250920" y="4581360"/>
            <a:ext cx="2736720" cy="137268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mmagine 4" descr=""/>
          <p:cNvPicPr/>
          <p:nvPr/>
        </p:nvPicPr>
        <p:blipFill>
          <a:blip r:embed="rId3"/>
          <a:stretch/>
        </p:blipFill>
        <p:spPr>
          <a:xfrm>
            <a:off x="0" y="4581360"/>
            <a:ext cx="3635280" cy="1368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1116000" y="126828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68400" indent="-68400" algn="just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1" marL="148320" indent="-56880" algn="just">
              <a:spcBef>
                <a:spcPts val="601"/>
              </a:spcBef>
              <a:buClr>
                <a:srgbClr val="ffcc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2" marL="228600" indent="-45720" algn="just">
              <a:spcBef>
                <a:spcPts val="601"/>
              </a:spcBef>
              <a:buClr>
                <a:srgbClr val="00b0f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3" marL="320040" indent="-45720" algn="just">
              <a:spcBef>
                <a:spcPts val="601"/>
              </a:spcBef>
              <a:buClr>
                <a:srgbClr val="ffcc00"/>
              </a:buClr>
              <a:buFont typeface="Arial Rounded MT Bold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4" marL="411480" indent="-45720" algn="just">
              <a:spcBef>
                <a:spcPts val="601"/>
              </a:spcBef>
              <a:buClr>
                <a:srgbClr val="ffcc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5" marL="411480" indent="-45720" algn="just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6" marL="411480" indent="-45720" algn="just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395280" y="6308640"/>
            <a:ext cx="431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sami di Stato – Commissione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68360" y="6308640"/>
            <a:ext cx="4319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magine 4" descr=""/>
          <p:cNvPicPr/>
          <p:nvPr/>
        </p:nvPicPr>
        <p:blipFill>
          <a:blip r:embed="rId3"/>
          <a:stretch/>
        </p:blipFill>
        <p:spPr>
          <a:xfrm>
            <a:off x="0" y="115920"/>
            <a:ext cx="2484360" cy="720720"/>
          </a:xfrm>
          <a:prstGeom prst="rect">
            <a:avLst/>
          </a:prstGeom>
          <a:ln w="0">
            <a:noFill/>
          </a:ln>
        </p:spPr>
      </p:pic>
      <p:pic>
        <p:nvPicPr>
          <p:cNvPr id="86" name="Immagine 4" descr=""/>
          <p:cNvPicPr/>
          <p:nvPr/>
        </p:nvPicPr>
        <p:blipFill>
          <a:blip r:embed="rId4"/>
          <a:stretch/>
        </p:blipFill>
        <p:spPr>
          <a:xfrm>
            <a:off x="0" y="115920"/>
            <a:ext cx="2484360" cy="720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1116000" y="126828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68400" indent="-68400" algn="just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1" marL="148320" indent="-56880" algn="just">
              <a:spcBef>
                <a:spcPts val="601"/>
              </a:spcBef>
              <a:buClr>
                <a:srgbClr val="ffcc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2" marL="228600" indent="-45720" algn="just">
              <a:spcBef>
                <a:spcPts val="601"/>
              </a:spcBef>
              <a:buClr>
                <a:srgbClr val="00b0f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3" marL="320040" indent="-45720" algn="just">
              <a:spcBef>
                <a:spcPts val="601"/>
              </a:spcBef>
              <a:buClr>
                <a:srgbClr val="ffcc00"/>
              </a:buClr>
              <a:buFont typeface="Arial Rounded MT Bold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4" marL="411480" indent="-45720" algn="just">
              <a:spcBef>
                <a:spcPts val="601"/>
              </a:spcBef>
              <a:buClr>
                <a:srgbClr val="ffcc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5" marL="411480" indent="-45720" algn="just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6" marL="411480" indent="-45720" algn="just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2"/>
          </p:nvPr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Times New Roman"/>
              </a:rPr>
              <a:t>pagina  </a:t>
            </a:r>
            <a:fld id="{4FD56FC0-9B80-4738-882B-53D810E122B8}" type="slidenum">
              <a:rPr b="1" lang="it-IT" sz="1100" spc="-1" strike="noStrike">
                <a:solidFill>
                  <a:srgbClr val="00b0f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395280" y="6308640"/>
            <a:ext cx="431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sami di Stato – Commissione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468360" y="6308640"/>
            <a:ext cx="4319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magine 4" descr=""/>
          <p:cNvPicPr/>
          <p:nvPr/>
        </p:nvPicPr>
        <p:blipFill>
          <a:blip r:embed="rId3"/>
          <a:stretch/>
        </p:blipFill>
        <p:spPr>
          <a:xfrm>
            <a:off x="0" y="115920"/>
            <a:ext cx="248436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Immagine 4" descr=""/>
          <p:cNvPicPr/>
          <p:nvPr/>
        </p:nvPicPr>
        <p:blipFill>
          <a:blip r:embed="rId4"/>
          <a:stretch/>
        </p:blipFill>
        <p:spPr>
          <a:xfrm>
            <a:off x="0" y="115920"/>
            <a:ext cx="2484360" cy="7207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1116000" y="126828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68400" indent="-68400" algn="just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1" marL="148320" indent="-56880" algn="just">
              <a:spcBef>
                <a:spcPts val="601"/>
              </a:spcBef>
              <a:buClr>
                <a:srgbClr val="ffcc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2" marL="228600" indent="-45720" algn="just">
              <a:spcBef>
                <a:spcPts val="601"/>
              </a:spcBef>
              <a:buClr>
                <a:srgbClr val="00b0f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3" marL="320040" indent="-45720" algn="just">
              <a:spcBef>
                <a:spcPts val="601"/>
              </a:spcBef>
              <a:buClr>
                <a:srgbClr val="ffcc00"/>
              </a:buClr>
              <a:buFont typeface="Arial Rounded MT Bold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4" marL="411480" indent="-45720" algn="just">
              <a:spcBef>
                <a:spcPts val="601"/>
              </a:spcBef>
              <a:buClr>
                <a:srgbClr val="ffcc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5" marL="411480" indent="-45720" algn="just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6" marL="411480" indent="-45720" algn="just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ldNum" idx="3"/>
          </p:nvPr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Times New Roman"/>
              </a:rPr>
              <a:t>pagina  </a:t>
            </a:r>
            <a:fld id="{A48D670C-512B-4A9A-B8FE-C8312FAEE0A3}" type="slidenum">
              <a:rPr b="1" lang="it-IT" sz="1100" spc="-1" strike="noStrike">
                <a:solidFill>
                  <a:srgbClr val="00b0f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"/>
          <p:cNvSpPr/>
          <p:nvPr/>
        </p:nvSpPr>
        <p:spPr>
          <a:xfrm>
            <a:off x="395280" y="6308640"/>
            <a:ext cx="431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sami di Stato – Commissione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68360" y="6308640"/>
            <a:ext cx="4319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Immagine 4" descr=""/>
          <p:cNvPicPr/>
          <p:nvPr/>
        </p:nvPicPr>
        <p:blipFill>
          <a:blip r:embed="rId3"/>
          <a:stretch/>
        </p:blipFill>
        <p:spPr>
          <a:xfrm>
            <a:off x="0" y="115920"/>
            <a:ext cx="2484360" cy="720720"/>
          </a:xfrm>
          <a:prstGeom prst="rect">
            <a:avLst/>
          </a:prstGeom>
          <a:ln w="0">
            <a:noFill/>
          </a:ln>
        </p:spPr>
      </p:pic>
      <p:pic>
        <p:nvPicPr>
          <p:cNvPr id="172" name="Immagine 4" descr=""/>
          <p:cNvPicPr/>
          <p:nvPr/>
        </p:nvPicPr>
        <p:blipFill>
          <a:blip r:embed="rId4"/>
          <a:stretch/>
        </p:blipFill>
        <p:spPr>
          <a:xfrm>
            <a:off x="0" y="115920"/>
            <a:ext cx="2484360" cy="720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16000" y="126828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68400" indent="-68400" algn="just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1" marL="148320" indent="-56880" algn="just">
              <a:spcBef>
                <a:spcPts val="601"/>
              </a:spcBef>
              <a:buClr>
                <a:srgbClr val="ffcc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2" marL="228600" indent="-45720" algn="just">
              <a:spcBef>
                <a:spcPts val="601"/>
              </a:spcBef>
              <a:buClr>
                <a:srgbClr val="00b0f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3" marL="320040" indent="-45720" algn="just">
              <a:spcBef>
                <a:spcPts val="601"/>
              </a:spcBef>
              <a:buClr>
                <a:srgbClr val="ffcc00"/>
              </a:buClr>
              <a:buFont typeface="Arial Rounded MT Bold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4" marL="411480" indent="-45720" algn="just">
              <a:spcBef>
                <a:spcPts val="601"/>
              </a:spcBef>
              <a:buClr>
                <a:srgbClr val="ffcc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5" marL="411480" indent="-45720" algn="just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6" marL="411480" indent="-45720" algn="just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Num" idx="4"/>
          </p:nvPr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Times New Roman"/>
              </a:rPr>
              <a:t>pagina  </a:t>
            </a:r>
            <a:fld id="{D1D4CBD4-5A12-4CBB-934B-9DAA6646BDC7}" type="slidenum">
              <a:rPr b="1" lang="it-IT" sz="1100" spc="-1" strike="noStrike">
                <a:solidFill>
                  <a:srgbClr val="00b0f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3"/>
          <p:cNvSpPr/>
          <p:nvPr/>
        </p:nvSpPr>
        <p:spPr>
          <a:xfrm>
            <a:off x="395280" y="6308640"/>
            <a:ext cx="431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sami di Stato – Commissione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68360" y="6308640"/>
            <a:ext cx="4319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Immagine 4" descr=""/>
          <p:cNvPicPr/>
          <p:nvPr/>
        </p:nvPicPr>
        <p:blipFill>
          <a:blip r:embed="rId4"/>
          <a:stretch/>
        </p:blipFill>
        <p:spPr>
          <a:xfrm>
            <a:off x="0" y="115920"/>
            <a:ext cx="2484360" cy="720720"/>
          </a:xfrm>
          <a:prstGeom prst="rect">
            <a:avLst/>
          </a:prstGeom>
          <a:ln w="0">
            <a:noFill/>
          </a:ln>
        </p:spPr>
      </p:pic>
      <p:pic>
        <p:nvPicPr>
          <p:cNvPr id="215" name="Immagine 4" descr=""/>
          <p:cNvPicPr/>
          <p:nvPr/>
        </p:nvPicPr>
        <p:blipFill>
          <a:blip r:embed="rId5"/>
          <a:stretch/>
        </p:blipFill>
        <p:spPr>
          <a:xfrm>
            <a:off x="0" y="115920"/>
            <a:ext cx="2484360" cy="7207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1116000" y="126828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68400" indent="-68400" algn="just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1" marL="148320" indent="-56880" algn="just">
              <a:spcBef>
                <a:spcPts val="601"/>
              </a:spcBef>
              <a:buClr>
                <a:srgbClr val="ffcc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2" marL="228600" indent="-45720" algn="just">
              <a:spcBef>
                <a:spcPts val="601"/>
              </a:spcBef>
              <a:buClr>
                <a:srgbClr val="00b0f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3" marL="320040" indent="-45720" algn="just">
              <a:spcBef>
                <a:spcPts val="601"/>
              </a:spcBef>
              <a:buClr>
                <a:srgbClr val="ffcc00"/>
              </a:buClr>
              <a:buFont typeface="Arial Rounded MT Bold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4" marL="411480" indent="-45720" algn="just">
              <a:spcBef>
                <a:spcPts val="601"/>
              </a:spcBef>
              <a:buClr>
                <a:srgbClr val="ffcc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5" marL="411480" indent="-45720" algn="just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  <a:p>
            <a:pPr lvl="6" marL="411480" indent="-45720" algn="just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0505a"/>
                </a:solidFill>
                <a:latin typeface="Arial Rounded MT Bold"/>
              </a:rPr>
              <a:t>Click to edit the title text format</a:t>
            </a:r>
            <a:endParaRPr b="0" lang="en-US" sz="1500" spc="-1" strike="noStrike">
              <a:solidFill>
                <a:srgbClr val="50505a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059280" y="4076280"/>
            <a:ext cx="47527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AMI DI STATO 2012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2"/>
          <p:cNvSpPr/>
          <p:nvPr/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gina  </a:t>
            </a:r>
            <a:fld id="{E288558A-EC3E-45F6-BE8F-2723D379B4E2}" type="slidenum">
              <a:rPr b="1" lang="it-IT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itle 2"/>
          <p:cNvSpPr/>
          <p:nvPr/>
        </p:nvSpPr>
        <p:spPr>
          <a:xfrm>
            <a:off x="179280" y="981000"/>
            <a:ext cx="8069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HPFutura Heavy"/>
              </a:rPr>
              <a:t>Commissione Web – Il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755640" y="2060640"/>
            <a:ext cx="7232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’ organizzato secondo le giornate di lavoro della commissione: dalla giornata dell’INSEDIAMENTO  alla chiusura delle ATTIVITA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’ strutturato su due livelli: al primo livello sono riportate tutte le voci che corrispondono alle diverse giornate di lavoro, al secondo livello tutte le voci di ogni singola giorn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guendo lo schema delle voci menu alla fine di ogni giornata di lavoro la commissione troverà i verbali in parte già precompila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2"/>
          <p:cNvSpPr/>
          <p:nvPr/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gina  </a:t>
            </a:r>
            <a:fld id="{A131512F-3E8B-4298-903D-97F8BFCA3E74}" type="slidenum">
              <a:rPr b="1" lang="it-IT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itle 2"/>
          <p:cNvSpPr/>
          <p:nvPr/>
        </p:nvSpPr>
        <p:spPr>
          <a:xfrm>
            <a:off x="179280" y="981000"/>
            <a:ext cx="85694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HPFutura Heavy"/>
              </a:rPr>
              <a:t>Commissione Web – Il menu e la voce Insedi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229600" cy="3776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2"/>
          <p:cNvSpPr/>
          <p:nvPr/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gina  </a:t>
            </a:r>
            <a:fld id="{3209110C-84B8-4C20-BD65-340FF2140629}" type="slidenum">
              <a:rPr b="1" lang="it-IT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itle 2"/>
          <p:cNvSpPr/>
          <p:nvPr/>
        </p:nvSpPr>
        <p:spPr>
          <a:xfrm>
            <a:off x="179280" y="981000"/>
            <a:ext cx="8069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HPFutura Heavy"/>
              </a:rPr>
              <a:t>Commissione Web – Le voci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539640" y="1773360"/>
            <a:ext cx="8064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MS PGothic"/>
              </a:rPr>
              <a:t>Insedi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MS PGothic"/>
              </a:rPr>
              <a:t>I prova scrit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MS PGothic"/>
              </a:rPr>
              <a:t>II prova scrit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MS PGothic"/>
              </a:rPr>
              <a:t>III prova scrit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MS PGothic"/>
              </a:rPr>
              <a:t>IV prova scrit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MS PGothic"/>
              </a:rPr>
              <a:t>Valutazione prove scri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MS PGothic"/>
              </a:rPr>
              <a:t>Colloq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Prove supple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MS PGothic"/>
              </a:rPr>
              <a:t>Adempimenti Fin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Stam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MS PGothic"/>
              </a:rPr>
              <a:t>Gestione Attiv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Verb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2"/>
          <p:cNvSpPr/>
          <p:nvPr/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gina  </a:t>
            </a:r>
            <a:fld id="{82A32386-35D3-4E4A-9B45-CA4D31302929}" type="slidenum">
              <a:rPr b="1" lang="it-IT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itle 2"/>
          <p:cNvSpPr/>
          <p:nvPr/>
        </p:nvSpPr>
        <p:spPr>
          <a:xfrm>
            <a:off x="179280" y="981000"/>
            <a:ext cx="8069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HPFutura Heavy"/>
              </a:rPr>
              <a:t>Commissione Web – Insedia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539640" y="1557360"/>
            <a:ext cx="79930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gistrazione presenze dei commissari e del presi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 ogni assenza registrare la data di assenza e l’eventuale necessità di sostituzion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presenze e le assenze sono riportate automaticamente sui verba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ttribuzioni funzioni ai commissa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missario/sostituto del presidente/segre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tampa delle dichiarazioni dei commissar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tampa  della dichiarazione per ogni commissario componente della commissione d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MS PGothic"/>
              </a:rPr>
              <a:t>Non aver nessun candidato come par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MS PGothic"/>
              </a:rPr>
              <a:t>Non aver istruito privatamente alcun candid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Visualizza e stampa elenco candida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lenco candidati suddivisi per interni/esterni/abbrevi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Visualizza/stampa scheda di presentazione candida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scheda di presentazione del candidato riporta i dati predisposti dalla scuola con tutte le informazioni del candid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2"/>
          <p:cNvSpPr/>
          <p:nvPr/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gina  </a:t>
            </a:r>
            <a:fld id="{2C38FB16-F9D6-4A28-AD55-6A16397EB6DE}" type="slidenum">
              <a:rPr b="1" lang="it-IT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itle 2"/>
          <p:cNvSpPr/>
          <p:nvPr/>
        </p:nvSpPr>
        <p:spPr>
          <a:xfrm>
            <a:off x="179280" y="981000"/>
            <a:ext cx="8069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HPFutura Heavy"/>
              </a:rPr>
              <a:t>Commissione Web – Insedia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297000" y="1557360"/>
            <a:ext cx="83786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verbali saranno aperti in automatico dal sistema e verranno precompilati con tutti i dati previsti. L’utente può aggiornare i verbali e salvarli su proprie cartelle. I verbali previsti per la giornata dell’Insediamento sono 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Verbale dell’insediamento e della riunione plenaria delle due Commissioni abbinate, aventi in comune la componente est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Verbale dell’insediamento e della riunione plenaria della Commissione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Verbale di prosecuzione della riunione plenaria della Commissi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applicativo consente di inserire la data di pubblicazione e la commissione per la quale produrre il verbale, come da esempio pagina success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2"/>
          <p:cNvSpPr/>
          <p:nvPr/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gina  </a:t>
            </a:r>
            <a:fld id="{B602BABE-E800-47FB-A55A-9C613B8775A9}" type="slidenum">
              <a:rPr b="1" lang="it-IT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itle 2"/>
          <p:cNvSpPr/>
          <p:nvPr/>
        </p:nvSpPr>
        <p:spPr>
          <a:xfrm>
            <a:off x="179280" y="981000"/>
            <a:ext cx="85694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HPFutura Heavy"/>
              </a:rPr>
              <a:t>Commissione Web – La gestione dei verb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C:\Documenti\MPI\Esami di Stato\Conchiglia\2012\Presentazioni\18 - Verbali.jpg"/>
          <p:cNvPicPr/>
          <p:nvPr/>
        </p:nvPicPr>
        <p:blipFill>
          <a:blip r:embed="rId1"/>
          <a:stretch/>
        </p:blipFill>
        <p:spPr>
          <a:xfrm>
            <a:off x="171360" y="1773360"/>
            <a:ext cx="8721720" cy="396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2"/>
          <p:cNvSpPr/>
          <p:nvPr/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gina  </a:t>
            </a:r>
            <a:fld id="{656255D8-35B8-4C64-9605-33DFF268971B}" type="slidenum">
              <a:rPr b="1" lang="it-IT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itle 2"/>
          <p:cNvSpPr/>
          <p:nvPr/>
        </p:nvSpPr>
        <p:spPr>
          <a:xfrm>
            <a:off x="179280" y="981000"/>
            <a:ext cx="8069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HPFutura Heavy"/>
              </a:rPr>
              <a:t>Commissione Web – I prova scri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127080" y="1557360"/>
            <a:ext cx="86929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Registrazione Assenze Candi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SimSun"/>
              </a:rPr>
              <a:t>Consente di indicare le assenze  (spunta candidato assente) e se  l’assenza è giustificata o m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Rilevazione lavori presentati e scelta tipologia pr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SimSun"/>
              </a:rPr>
              <a:t>consente l’inserimento delle tracce scelte e la tipologia di prova per ogni candidato: Analisi del testo, Saggio breve , ec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estione Inclusione con Riserva/Esclusione Candi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SimSun"/>
              </a:rPr>
              <a:t>Consente di registrare le eventuali esclusioni di candidati per irregolarità rilevate durante le prove scritte o inclusione con riserva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 le motivazion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SimSun"/>
              </a:rPr>
              <a:t>Produzione dei verbali della giornata della I prova scrit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Verbale di  apertura del plico ministeriale telematico e di consegna dei testi della prima prova scrit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Verbale  delle operazioni per la formulazione e la scelta delle tracce dei testi relativi alla prima prova scritta, nel caso di impossibilità di utilizzo del plico telematico e di mancata ricezione della prova d’esame da parte dell’Ufficio Scolastico regionale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2"/>
          <p:cNvSpPr/>
          <p:nvPr/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gina  </a:t>
            </a:r>
            <a:fld id="{85E4E914-4A46-498B-A5D6-A7A27F5D4A0E}" type="slidenum">
              <a:rPr b="1" lang="it-IT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itle 2"/>
          <p:cNvSpPr/>
          <p:nvPr/>
        </p:nvSpPr>
        <p:spPr>
          <a:xfrm>
            <a:off x="179280" y="981000"/>
            <a:ext cx="8069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HPFutura Heavy"/>
              </a:rPr>
              <a:t>Commissione Web – II prova scri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"/>
          <p:cNvSpPr/>
          <p:nvPr/>
        </p:nvSpPr>
        <p:spPr>
          <a:xfrm>
            <a:off x="324000" y="1432800"/>
            <a:ext cx="861048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Registrazione Assenze Candi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SimSun"/>
              </a:rPr>
              <a:t>Consente di indicare le assenze  (spunta candidato assente) e se  l’assenza è giustificata o men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Registrazione tracce Sce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SimSun"/>
              </a:rPr>
              <a:t>Consente di inserire le  tracce scelte per la II materia.  Se la materia è MATEMATICA, la scelta del candidato sarà selezionabile da una lista che distingue il PROBLEMA scelto. Se la materia delle II prova scritta è LINGUA STRANIERA, la scelta del candidato sarà selezionabile da una lista contenente le lingue selezionabili (Francese, Inglese, Russo, Spagnolo, Tedesco, Arabo, Cinese, Ebraico, Giappone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estione Inclusione con Riserva/Esclusione Candi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SimSun"/>
              </a:rPr>
              <a:t>Consente di registrare le eventuali esclusioni per irregolarità rilevate durante le prove scritte o inclusione con riserva con le motivazio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duzione dei verbali della giornata della II prova scrit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Verbale di  apertura del plico ministeriale telematico e di consegna dei testi della seconda prova scrit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Verbale  delle operazioni per la formulazione e la scelta delle tracce dei testi relativi alla second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ova scritta, nel caso di impossibilità di utilizzo del plico telematico e di mancata ricezione della prova d’esame da parte dell’Ufficio Scolastico regionale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2"/>
          <p:cNvSpPr/>
          <p:nvPr/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gina  </a:t>
            </a:r>
            <a:fld id="{C08E3969-5B99-4006-B345-16C2CC614C02}" type="slidenum">
              <a:rPr b="1" lang="it-IT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itle 2"/>
          <p:cNvSpPr/>
          <p:nvPr/>
        </p:nvSpPr>
        <p:spPr>
          <a:xfrm>
            <a:off x="179280" y="981000"/>
            <a:ext cx="8069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HPFutura Heavy"/>
              </a:rPr>
              <a:t>Commissione Web – III prova scri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250920" y="2237040"/>
            <a:ext cx="820872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Diario Svolg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SimSun"/>
              </a:rPr>
              <a:t>Consente di inserire per la III prova  la durata e  l’ora  d’iniz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Stampa all’Al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SimSun"/>
              </a:rPr>
              <a:t>Consente la stampa del diario della terza prova da affiggere all’albo della scuola in modo che possa essere visionato dai candida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Registrazione Assenze Candi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Consente di indicare le assenze  (spunta candidato assente) e se  l’assenza è giustificata o men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MS PGothic"/>
              </a:rPr>
              <a:t>Rilevazione Materie e Tip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SimSun"/>
              </a:rPr>
              <a:t>Consente di rilevare per ogni classe le materie della terza prova e  la scelta della tipologia della prova. Per ogni classe le materie sono massimo 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estione Inclusione con Riserva/Esclusione Candi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sente di registrare le eventuali esclusioni per irregolarità rilevate durante le prove scritte o inclusione con riserva con le motivazio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2"/>
          <p:cNvSpPr/>
          <p:nvPr/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gina  </a:t>
            </a:r>
            <a:fld id="{04EFE5BB-AD25-4976-8097-1A896624C0A0}" type="slidenum">
              <a:rPr b="1" lang="it-IT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2"/>
          <p:cNvSpPr/>
          <p:nvPr/>
        </p:nvSpPr>
        <p:spPr>
          <a:xfrm>
            <a:off x="179280" y="981000"/>
            <a:ext cx="8069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HPFutura Heavy"/>
              </a:rPr>
              <a:t>Commissione Web – IV prova scritta-ESAB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826920" y="2510280"/>
            <a:ext cx="70567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Registrazione Assenze Candida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Consente di indicare le assenze  (spunta candidato assente) e se  l’assenza è giustificata o me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duzione dei verbali della giornata della IV prova scrit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-Verbale della riunione della Commissione d’esame relativa all’attribuzione del voto finale ed alla certificazione (modello ESABA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116000" y="126828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b0f0"/>
                </a:solidFill>
                <a:latin typeface="Arial"/>
              </a:rPr>
              <a:t>Sintesi del processo</a:t>
            </a:r>
            <a:endParaRPr b="0" lang="en-US" sz="2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68360" y="2421000"/>
            <a:ext cx="8064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processo relativo all’esame di Stato si articola prima in ambiente SIDI – Esiti esami di Stato - poi su internet in «Commissione web» disponibile sul sito del MIUR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mbiente SID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le segreterie scolastiche inseriscono nell’area “Esiti esame di Stato”, le informazioni sull’ammissione degli studenti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mmissione web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le commissioni d’esame, all’interno del nuovo applicativo, che contiene già tutte le informazioni sui candidati ammessi, svolgono, direttamente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on lin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tutte le loro attività relative agli esami di St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2"/>
          <p:cNvSpPr/>
          <p:nvPr/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gina  </a:t>
            </a:r>
            <a:fld id="{E7535E36-A049-4AFC-A8FD-0F338E799BE8}" type="slidenum">
              <a:rPr b="1" lang="it-IT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itle 2"/>
          <p:cNvSpPr/>
          <p:nvPr/>
        </p:nvSpPr>
        <p:spPr>
          <a:xfrm>
            <a:off x="179280" y="981000"/>
            <a:ext cx="8069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HPFutura Heavy"/>
              </a:rPr>
              <a:t>Commissione Web – Valutazione prove scri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611280" y="1736640"/>
            <a:ext cx="7272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Inserimento Punteg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Consente di rilevare per ogni candidato e per ogni prova le proposte di puntegg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Stampa Albo prove scri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Consente di stampare l’elenco candidati con il relativo punteggio ottenuto nelle singole prove scritte per l’affissione all’albo della scuol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mpa diario dei colloqui da affiggere all’albo della scu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duzione dei verbali relativi alla valutazione delle prove scri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-Verbale  di inizio delle  operazioni di correzione e di valutazione delle prove scri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-Verbale di prosecuzione delle operazioni di correzione e di valutazione delle prove scri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2"/>
          <p:cNvSpPr/>
          <p:nvPr/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gina  </a:t>
            </a:r>
            <a:fld id="{4527009B-5CEB-4625-8347-945D0A759FE6}" type="slidenum">
              <a:rPr b="1" lang="it-IT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itle 2"/>
          <p:cNvSpPr/>
          <p:nvPr/>
        </p:nvSpPr>
        <p:spPr>
          <a:xfrm>
            <a:off x="179280" y="981000"/>
            <a:ext cx="8069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HPFutura Heavy"/>
              </a:rPr>
              <a:t>Commissione Web – Collo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"/>
          <p:cNvSpPr/>
          <p:nvPr/>
        </p:nvSpPr>
        <p:spPr>
          <a:xfrm>
            <a:off x="900000" y="1726560"/>
            <a:ext cx="66261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Registrazione Assenze Candida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Consente di indicare le assenze  (spunta candidato assente) e se  l’assenza è giustificata o me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Inserimento Valutazioni prova or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Consente l’inserimento della valutazione della prova ora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Se non c’è  unanimità di valutazione, ogni commissario può far registrare il punteggio proposto e la motivazio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Per ogni candidato vengono registrati gli argomenti oggetto del colloqu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-Verbale  relativo allo svolgimento dei colloqui ed all’attribuzione dei punteg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2"/>
          <p:cNvSpPr/>
          <p:nvPr/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gina  </a:t>
            </a:r>
            <a:fld id="{5A8E2534-5494-4A6C-8814-FFA6C3E63E76}" type="slidenum">
              <a:rPr b="1" lang="it-IT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itle 2"/>
          <p:cNvSpPr/>
          <p:nvPr/>
        </p:nvSpPr>
        <p:spPr>
          <a:xfrm>
            <a:off x="179280" y="981000"/>
            <a:ext cx="8069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HPFutura Heavy"/>
              </a:rPr>
              <a:t>Commissione Web – Prove supple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"/>
          <p:cNvSpPr/>
          <p:nvPr/>
        </p:nvSpPr>
        <p:spPr>
          <a:xfrm>
            <a:off x="971640" y="2084040"/>
            <a:ext cx="70563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Registrazione Assenze Candida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Consente di indicare le assenze  (spunta candidato assente) e se  l’assenza è giustificata o me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Inserimento Valutazioni prove supple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Consente l’inserimento della valutazione delle prove suppleti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duzione dei verbali relativi alla valutazione delle prove supple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2"/>
          <p:cNvSpPr/>
          <p:nvPr/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gina  </a:t>
            </a:r>
            <a:fld id="{A9D69C9C-CBEE-4BF2-BEA3-6AF08072D61D}" type="slidenum">
              <a:rPr b="1" lang="it-IT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itle 2"/>
          <p:cNvSpPr/>
          <p:nvPr/>
        </p:nvSpPr>
        <p:spPr>
          <a:xfrm>
            <a:off x="179280" y="981000"/>
            <a:ext cx="8069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HPFutura Heavy"/>
              </a:rPr>
              <a:t>Commissione Web – Adempimenti fi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"/>
          <p:cNvSpPr/>
          <p:nvPr/>
        </p:nvSpPr>
        <p:spPr>
          <a:xfrm>
            <a:off x="755640" y="1952280"/>
            <a:ext cx="73454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Valutazione finale dei candida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lutazione finale per candidato  con l’indicazione dell’eventuale Integrazione del punteggio con la motivazione, l’eventuale Lode, ulteriori specificazioni valutative e progressione negli studi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ampa albo esiti esa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sente la stampa degli esiti finali per l’affis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-Verbale della riunione della Commissione d’esame relativa all’attribuzione del voto finale ed alla certific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MS PGothic"/>
              </a:rPr>
              <a:t>-Verbale della riunione della Commissione destinata agli adempimenti conclusivi delle operazioni d’es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2"/>
          <p:cNvSpPr/>
          <p:nvPr/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gina  </a:t>
            </a:r>
            <a:fld id="{3F059A76-9F0D-4CF5-91CD-8BE3ADC0A99D}" type="slidenum">
              <a:rPr b="1" lang="it-IT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itle 2"/>
          <p:cNvSpPr/>
          <p:nvPr/>
        </p:nvSpPr>
        <p:spPr>
          <a:xfrm>
            <a:off x="179280" y="981000"/>
            <a:ext cx="8069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HPFutura Heavy"/>
              </a:rPr>
              <a:t>Commissione Web – Gestione attiv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"/>
          <p:cNvSpPr/>
          <p:nvPr/>
        </p:nvSpPr>
        <p:spPr>
          <a:xfrm>
            <a:off x="900000" y="2933640"/>
            <a:ext cx="712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mpa Situazioni Ano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unzione di stampa delle situazioni anomale (candidati senza valutazioni finali,e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hiusura Attiv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sente di chiudere i lavori da parte della commissione. La commissione consegna i dati alla scuola e chiude le operazioni. Da questo momento gli esiti finali saranno visibili sull’applicazione Esiti Esami di Stato sul SID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2"/>
          <p:cNvSpPr/>
          <p:nvPr/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gina  </a:t>
            </a:r>
            <a:fld id="{B38FDC9F-047E-45A5-BF40-1FD97147459C}" type="slidenum">
              <a:rPr b="1" lang="it-IT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itle 2"/>
          <p:cNvSpPr/>
          <p:nvPr/>
        </p:nvSpPr>
        <p:spPr>
          <a:xfrm>
            <a:off x="179280" y="981000"/>
            <a:ext cx="8069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HPFutura Heavy"/>
              </a:rPr>
              <a:t>Commissione Web – Stam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826920" y="1720080"/>
            <a:ext cx="786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chiarazioni Commiss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enco Candi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cheda Presentazione Candid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edito Candidati Ester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ario Svolgimento III Prova Scri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enco Punteggio delle singole Prove Scri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enco diario dei colloq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enco Esiti E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enco Candidati Esclu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enco Presenze/Assenze Candidati per Pr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tuazioni Ano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2"/>
          <p:cNvSpPr/>
          <p:nvPr/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gina  </a:t>
            </a:r>
            <a:fld id="{B6A783F4-FE43-4D2F-A44A-45108283CDC4}" type="slidenum">
              <a:rPr b="1" lang="it-IT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itle 2"/>
          <p:cNvSpPr/>
          <p:nvPr/>
        </p:nvSpPr>
        <p:spPr>
          <a:xfrm>
            <a:off x="179280" y="981000"/>
            <a:ext cx="8069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HPFutura Heavy"/>
              </a:rPr>
              <a:t>Novità e vantag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324000" y="1700280"/>
            <a:ext cx="7807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l nuovo processo realizz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la piena integrazione delle informazioni inserite dalle segreterie scolastiche con quelle registrate dalle Commissioni, evitando doppie immissioni di dati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l’immediato utilizzo, per tutti i soggetti coinvolti, dei dati inseriti per Io svolgimento delle funzioni di competenza (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ttimizzazione del lavoro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la semplificazione delle operazioni e del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raccolta dei dat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la disponibilità in tempo reale degli esiti degli esami di Stato in ambiente SI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2"/>
          <p:cNvSpPr/>
          <p:nvPr/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gina  </a:t>
            </a:r>
            <a:fld id="{88726F01-CB90-4FAF-B04F-E1D58989C8FA}" type="slidenum">
              <a:rPr b="1" lang="it-IT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itle 2"/>
          <p:cNvSpPr/>
          <p:nvPr/>
        </p:nvSpPr>
        <p:spPr>
          <a:xfrm>
            <a:off x="179280" y="836640"/>
            <a:ext cx="8069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HPFutura Heavy"/>
              </a:rPr>
              <a:t>Fasi 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324000" y="2000160"/>
            <a:ext cx="8064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esentazione dei candidati ed ammissione agli esami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– Registrazione dei crediti degli ultimi 3 anni, delle informazioni di sintesi relative ai requisiti per il conseguimento della lode e dell’ammissione all’esame (le prime due operazioni possono essere effettuate direttamente sul Sidi oppure tramite la trasmissione</a:t>
            </a:r>
            <a:r>
              <a:rPr b="0" lang="it-IT" sz="1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 un flusso generato da un pacchetto locale)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ssociazione classe/commissione/indirizzi d’esam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– Associazione dei  candidati ammessi alla commissione corrispondente (area esami di Stato). Tale associazione, oltre a garantire una corretta gestione delle attività da parte della commissione, permette il collegamento alla materia oggetto della seconda prova scrit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llaDiTesto 1"/>
          <p:cNvSpPr/>
          <p:nvPr/>
        </p:nvSpPr>
        <p:spPr>
          <a:xfrm>
            <a:off x="324000" y="12812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b0f0"/>
                </a:solidFill>
                <a:latin typeface="Arial"/>
              </a:rPr>
              <a:t>Fase da effettuarsi a cura delle segreterie scolas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2"/>
          <p:cNvSpPr/>
          <p:nvPr/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gina  </a:t>
            </a:r>
            <a:fld id="{38601DF2-1600-40B6-97B0-2674E71F548D}" type="slidenum">
              <a:rPr b="1" lang="it-IT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itle 2"/>
          <p:cNvSpPr/>
          <p:nvPr/>
        </p:nvSpPr>
        <p:spPr>
          <a:xfrm>
            <a:off x="179280" y="981000"/>
            <a:ext cx="8069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HPFutura Heavy"/>
              </a:rPr>
              <a:t>Fasi 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6"/>
          <p:cNvSpPr/>
          <p:nvPr/>
        </p:nvSpPr>
        <p:spPr>
          <a:xfrm>
            <a:off x="324000" y="1773360"/>
            <a:ext cx="780732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bilitazione del Presidente della commissione all’uso dell’applicativo  “Commissione Web”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– Registrazione, a cura delle segreterie scolastiche, delle abilitazioni all’uso dell’applicativo web di supporto alla commissione d’esame.  La registrazione riguarda il presidente di commissione ed eventuali commissari delegati. Requisito per poter essere abilitati è la registrazione a POL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scuole, le cui Commissioni di esame hanno utilizzato Commissione web, possono trasferire i dati degli esiti degli esami di Stato sul proprio pacchetto locale. Prerequisito dell’operazione è la possibilità di effettuare la  sincronizzaz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2"/>
          <p:cNvSpPr/>
          <p:nvPr/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gina  </a:t>
            </a:r>
            <a:fld id="{DA738D65-E0DA-473A-8BC0-4C532A01B80D}" type="slidenum">
              <a:rPr b="1" lang="it-IT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itle 2"/>
          <p:cNvSpPr/>
          <p:nvPr/>
        </p:nvSpPr>
        <p:spPr>
          <a:xfrm>
            <a:off x="179280" y="981000"/>
            <a:ext cx="8069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HPFutura Heavy"/>
              </a:rPr>
              <a:t>Fasi 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6"/>
          <p:cNvSpPr/>
          <p:nvPr/>
        </p:nvSpPr>
        <p:spPr>
          <a:xfrm>
            <a:off x="324000" y="2833560"/>
            <a:ext cx="78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sione Web”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– Le commissioni d’esame durante lo svolgimento delle attività saranno supportate dal nuovo applicativo in ambiente Web. L’accesso all’applicativo è possibile utilizzando le credenziali di POL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CasellaDiTesto 1"/>
          <p:cNvSpPr/>
          <p:nvPr/>
        </p:nvSpPr>
        <p:spPr>
          <a:xfrm>
            <a:off x="755640" y="185436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b0f0"/>
                </a:solidFill>
                <a:latin typeface="Arial"/>
              </a:rPr>
              <a:t>Fase da effettuarsi su Commissione Web da parte delle Commiss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2"/>
          <p:cNvSpPr/>
          <p:nvPr/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gina  </a:t>
            </a:r>
            <a:fld id="{78F070B0-9F01-43B6-B382-69FA643A2D14}" type="slidenum">
              <a:rPr b="1" lang="it-IT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itle 2"/>
          <p:cNvSpPr/>
          <p:nvPr/>
        </p:nvSpPr>
        <p:spPr>
          <a:xfrm>
            <a:off x="179280" y="981000"/>
            <a:ext cx="8069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HPFutura Heavy"/>
              </a:rPr>
              <a:t>Commissione Web – Il portale di ac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C:\Documenti\MPI\Esami di Stato\Conchiglia\2012\Presentazioni\01- login.jpg"/>
          <p:cNvPicPr/>
          <p:nvPr/>
        </p:nvPicPr>
        <p:blipFill>
          <a:blip r:embed="rId1"/>
          <a:stretch/>
        </p:blipFill>
        <p:spPr>
          <a:xfrm>
            <a:off x="250920" y="1989000"/>
            <a:ext cx="8685000" cy="391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2"/>
          <p:cNvSpPr/>
          <p:nvPr/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gina  </a:t>
            </a:r>
            <a:fld id="{BEC5A5DC-0D65-4DDD-BA08-87E27D14F8EB}" type="slidenum">
              <a:rPr b="1" lang="it-IT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itle 2"/>
          <p:cNvSpPr/>
          <p:nvPr/>
        </p:nvSpPr>
        <p:spPr>
          <a:xfrm>
            <a:off x="179280" y="981000"/>
            <a:ext cx="8069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HPFutura Heavy"/>
              </a:rPr>
              <a:t>Commissione Web – La nuova interfaccia graf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"/>
          <p:cNvSpPr/>
          <p:nvPr/>
        </p:nvSpPr>
        <p:spPr>
          <a:xfrm>
            <a:off x="395280" y="1844640"/>
            <a:ext cx="84438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igitando le credenziali Polis, “Commissione web” riconoscerà ogni utente visualizzando nome e cognome, commissione su cui risulta assegnato, ruolo all’interno della commissio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olo gli utenti abilitati dalla scuola possono accedere al sistem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gni presidente/commissario accede ai dati dei candidati delle sole commissioni su cui e’ abilitata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’applicativo consente alle commissioni di navigare attraverso i documenti guida per lo svolgimento degli esami. Attraverso specifiche icone si puo’ accedere con un link diretto da ogni punto dell’applicatico 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lista dei candidati all’es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lista dei dati delle commissioni gest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guida operativa on-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BLOG dedicato a Commissione we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PDF dell’ordinananza ministe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elenco dei verbali da produr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Browser per accesso ad inter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2"/>
          <p:cNvSpPr/>
          <p:nvPr/>
        </p:nvSpPr>
        <p:spPr>
          <a:xfrm>
            <a:off x="7740720" y="611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gina  </a:t>
            </a:r>
            <a:fld id="{7BF20DFC-5049-42CC-88C8-20B5296B3503}" type="slidenum">
              <a:rPr b="1" lang="it-IT" sz="11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itle 2"/>
          <p:cNvSpPr/>
          <p:nvPr/>
        </p:nvSpPr>
        <p:spPr>
          <a:xfrm>
            <a:off x="179280" y="981000"/>
            <a:ext cx="8069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HPFutura Heavy"/>
              </a:rPr>
              <a:t>Commissione Web – I Link uti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C:\Documenti\MPI\Esami di Stato\Conchiglia\2012\Presentazioni\02 - home.jpg"/>
          <p:cNvPicPr/>
          <p:nvPr/>
        </p:nvPicPr>
        <p:blipFill>
          <a:blip r:embed="rId1"/>
          <a:stretch/>
        </p:blipFill>
        <p:spPr>
          <a:xfrm>
            <a:off x="363600" y="1628640"/>
            <a:ext cx="8529480" cy="3980160"/>
          </a:xfrm>
          <a:prstGeom prst="rect">
            <a:avLst/>
          </a:prstGeom>
          <a:ln w="0">
            <a:noFill/>
          </a:ln>
        </p:spPr>
      </p:pic>
      <p:pic>
        <p:nvPicPr>
          <p:cNvPr id="287" name="TextBox 24" descr=""/>
          <p:cNvPicPr/>
          <p:nvPr/>
        </p:nvPicPr>
        <p:blipFill>
          <a:blip r:embed="rId2"/>
          <a:stretch/>
        </p:blipFill>
        <p:spPr>
          <a:xfrm>
            <a:off x="2646360" y="4054320"/>
            <a:ext cx="5791320" cy="371520"/>
          </a:xfrm>
          <a:prstGeom prst="rect">
            <a:avLst/>
          </a:prstGeom>
          <a:ln w="0">
            <a:noFill/>
          </a:ln>
        </p:spPr>
      </p:pic>
      <p:pic>
        <p:nvPicPr>
          <p:cNvPr id="288" name="TextBox 25" descr=""/>
          <p:cNvPicPr/>
          <p:nvPr/>
        </p:nvPicPr>
        <p:blipFill>
          <a:blip r:embed="rId3"/>
          <a:stretch/>
        </p:blipFill>
        <p:spPr>
          <a:xfrm>
            <a:off x="2657520" y="4363920"/>
            <a:ext cx="4968720" cy="373320"/>
          </a:xfrm>
          <a:prstGeom prst="rect">
            <a:avLst/>
          </a:prstGeom>
          <a:ln w="0">
            <a:noFill/>
          </a:ln>
        </p:spPr>
      </p:pic>
      <p:pic>
        <p:nvPicPr>
          <p:cNvPr id="289" name="TextBox 26" descr=""/>
          <p:cNvPicPr/>
          <p:nvPr/>
        </p:nvPicPr>
        <p:blipFill>
          <a:blip r:embed="rId4"/>
          <a:stretch/>
        </p:blipFill>
        <p:spPr>
          <a:xfrm>
            <a:off x="2646360" y="3816360"/>
            <a:ext cx="5022720" cy="371520"/>
          </a:xfrm>
          <a:prstGeom prst="rect">
            <a:avLst/>
          </a:prstGeom>
          <a:ln w="0">
            <a:noFill/>
          </a:ln>
        </p:spPr>
      </p:pic>
      <p:pic>
        <p:nvPicPr>
          <p:cNvPr id="290" name="TextBox 27" descr=""/>
          <p:cNvPicPr/>
          <p:nvPr/>
        </p:nvPicPr>
        <p:blipFill>
          <a:blip r:embed="rId5"/>
          <a:stretch/>
        </p:blipFill>
        <p:spPr>
          <a:xfrm>
            <a:off x="2639880" y="3597120"/>
            <a:ext cx="5023080" cy="371520"/>
          </a:xfrm>
          <a:prstGeom prst="rect">
            <a:avLst/>
          </a:prstGeom>
          <a:ln w="0">
            <a:noFill/>
          </a:ln>
        </p:spPr>
      </p:pic>
      <p:pic>
        <p:nvPicPr>
          <p:cNvPr id="291" name="TextBox 28" descr=""/>
          <p:cNvPicPr/>
          <p:nvPr/>
        </p:nvPicPr>
        <p:blipFill>
          <a:blip r:embed="rId6"/>
          <a:stretch/>
        </p:blipFill>
        <p:spPr>
          <a:xfrm>
            <a:off x="2646360" y="3219480"/>
            <a:ext cx="5022720" cy="371520"/>
          </a:xfrm>
          <a:prstGeom prst="rect">
            <a:avLst/>
          </a:prstGeom>
          <a:ln w="0">
            <a:noFill/>
          </a:ln>
        </p:spPr>
      </p:pic>
      <p:pic>
        <p:nvPicPr>
          <p:cNvPr id="292" name="TextBox 29" descr=""/>
          <p:cNvPicPr/>
          <p:nvPr/>
        </p:nvPicPr>
        <p:blipFill>
          <a:blip r:embed="rId7"/>
          <a:stretch/>
        </p:blipFill>
        <p:spPr>
          <a:xfrm>
            <a:off x="2620800" y="2712960"/>
            <a:ext cx="5018400" cy="371520"/>
          </a:xfrm>
          <a:prstGeom prst="rect">
            <a:avLst/>
          </a:prstGeom>
          <a:ln w="0">
            <a:noFill/>
          </a:ln>
        </p:spPr>
      </p:pic>
      <p:sp>
        <p:nvSpPr>
          <p:cNvPr id="293" name="Right Arrow 30"/>
          <p:cNvSpPr/>
          <p:nvPr/>
        </p:nvSpPr>
        <p:spPr>
          <a:xfrm flipV="1">
            <a:off x="2124000" y="3147120"/>
            <a:ext cx="479520" cy="651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dddddd">
              <a:alpha val="75000"/>
            </a:srgbClr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TextBox 31" descr=""/>
          <p:cNvPicPr/>
          <p:nvPr/>
        </p:nvPicPr>
        <p:blipFill>
          <a:blip r:embed="rId8"/>
          <a:stretch/>
        </p:blipFill>
        <p:spPr>
          <a:xfrm>
            <a:off x="2633760" y="3011400"/>
            <a:ext cx="5022720" cy="371520"/>
          </a:xfrm>
          <a:prstGeom prst="rect">
            <a:avLst/>
          </a:prstGeom>
          <a:ln w="0">
            <a:noFill/>
          </a:ln>
        </p:spPr>
      </p:pic>
      <p:sp>
        <p:nvSpPr>
          <p:cNvPr id="295" name="Right Arrow 32"/>
          <p:cNvSpPr/>
          <p:nvPr/>
        </p:nvSpPr>
        <p:spPr>
          <a:xfrm flipV="1">
            <a:off x="2195640" y="2854440"/>
            <a:ext cx="395280" cy="6984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dddddd">
              <a:alpha val="75000"/>
            </a:srgbClr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ight Arrow 33"/>
          <p:cNvSpPr/>
          <p:nvPr/>
        </p:nvSpPr>
        <p:spPr>
          <a:xfrm flipV="1">
            <a:off x="2124000" y="3353760"/>
            <a:ext cx="487440" cy="7452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ddddd">
              <a:alpha val="75000"/>
            </a:srgbClr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ight Arrow 34"/>
          <p:cNvSpPr/>
          <p:nvPr/>
        </p:nvSpPr>
        <p:spPr>
          <a:xfrm flipV="1">
            <a:off x="2195640" y="3735360"/>
            <a:ext cx="417240" cy="5400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dddddd">
              <a:alpha val="75000"/>
            </a:srgbClr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ight Arrow 35"/>
          <p:cNvSpPr/>
          <p:nvPr/>
        </p:nvSpPr>
        <p:spPr>
          <a:xfrm flipV="1">
            <a:off x="2195640" y="3955320"/>
            <a:ext cx="420480" cy="49320"/>
          </a:xfrm>
          <a:prstGeom prst="rightArrow">
            <a:avLst>
              <a:gd name="adj1" fmla="val 50000"/>
              <a:gd name="adj2" fmla="val 49851"/>
            </a:avLst>
          </a:prstGeom>
          <a:solidFill>
            <a:srgbClr val="dddddd">
              <a:alpha val="75000"/>
            </a:srgbClr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ight Arrow 36"/>
          <p:cNvSpPr/>
          <p:nvPr/>
        </p:nvSpPr>
        <p:spPr>
          <a:xfrm flipV="1">
            <a:off x="2195640" y="4189320"/>
            <a:ext cx="423720" cy="46080"/>
          </a:xfrm>
          <a:prstGeom prst="rightArrow">
            <a:avLst>
              <a:gd name="adj1" fmla="val 50000"/>
              <a:gd name="adj2" fmla="val 49936"/>
            </a:avLst>
          </a:prstGeom>
          <a:solidFill>
            <a:srgbClr val="dddddd">
              <a:alpha val="75000"/>
            </a:srgbClr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ight Arrow 37"/>
          <p:cNvSpPr/>
          <p:nvPr/>
        </p:nvSpPr>
        <p:spPr>
          <a:xfrm flipV="1">
            <a:off x="2195640" y="4506120"/>
            <a:ext cx="433440" cy="7452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dddddd">
              <a:alpha val="75000"/>
            </a:srgbClr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22:04:04Z</dcterms:created>
  <dc:creator>TEST</dc:creator>
  <dc:description/>
  <dc:language>en-US</dc:language>
  <cp:lastModifiedBy>Antonio Lentini</cp:lastModifiedBy>
  <dcterms:modified xsi:type="dcterms:W3CDTF">2012-05-04T15:15:42Z</dcterms:modified>
  <cp:revision>384</cp:revision>
  <dc:subject/>
  <dc:title>Il Sistema Informativo del MIUR</dc:title>
</cp:coreProperties>
</file>