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013-ED36-45BB-9E8D-3F09A051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1DB-17A4-48E7-9EA6-509395F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8CD-DFFF-4298-A73F-D671FF39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D6E-B804-483B-8BF2-FEDF83D1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A35-F7E6-4DD5-A68B-D4CBD1FF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AB8-E28B-42A3-BC84-A479EBC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F91-63C8-4957-B77E-2F650946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80F-C09F-4027-A354-778FB6C5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9A2-59E5-45D5-BB0A-8278238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AE8-9A6B-4CEE-B976-2F818F2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6AA-58E7-4B6F-9CB3-FC187A2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47C-B835-4EB2-8EDE-B0C6074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E551-980C-4029-980C-8A3180398E9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5690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Immagine 3" descr="sistema di navigazione"/>
          <p:cNvPicPr/>
          <p:nvPr/>
        </p:nvPicPr>
        <p:blipFill>
          <a:blip r:embed="rId1"/>
          <a:stretch/>
        </p:blipFill>
        <p:spPr>
          <a:xfrm>
            <a:off x="539640" y="765000"/>
            <a:ext cx="82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egnaposto contenuto 3" descr="struttura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processo si articola prima in ambiente SIDI poi in Commissione web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 fas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la prima, cosiddetta fase di ammissione, le segreterie scolastiche inseriscono nel SIDI, area “Esiti esame di Stato”, le informazioni sull’ammissione degli studenti. Rispetto allo scorso anno, dovranno inserire anche i crediti del terzo, quarto e quinto anno di corso in modo distint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la seconda fase, le commissioni d’esame, a partire dal loro insediamento e fino alla conclusione delle attività, utilizzano per registrare gli esiti degli esami, direttamente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on li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il nuovo applicativo “Commissione web” disponibile all’interno di quest’area, che contiene già tutte le informazioni sui candidati ammess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 la conclusione di questa fase, esplicitamente dichiarata dalle commissioni, le informazioni inserite sono automaticamente disponibili sul sistema SIDI, Area “Esiti esami di Stato”, per le segreterie scolastich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6:56:13Z</dcterms:created>
  <dc:creator>orior</dc:creator>
  <dc:description/>
  <dc:language>en-US</dc:language>
  <cp:lastModifiedBy>orior</cp:lastModifiedBy>
  <dcterms:modified xsi:type="dcterms:W3CDTF">2012-05-04T07:02:41Z</dcterms:modified>
  <cp:revision>1</cp:revision>
  <dc:subject/>
  <dc:title>Diapositiva 1</dc:title>
</cp:coreProperties>
</file>